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548-5840-4B9F-B31C-6BF75E51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27C-1208-4307-84BB-72B37FD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90D-660C-4F9B-A322-9E845487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672-260F-4A42-99C0-B7DAE96C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890C-678D-44A2-AFBC-8C070EFB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060-9F07-436C-AC31-B6E2126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7CCB-30B5-4163-8272-4BB97FA3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A98-6F4D-419A-9740-FAF09EF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0BFE-372E-494B-B88C-86E13B0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9DE-B1EA-4C6F-AC74-B887E46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E51E-D051-402B-B917-7F02E4D9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9F8-77A8-43BA-8514-CDB0A87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9AC5-9110-4D89-9CDC-1DFC011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3BB-B245-43F7-83BB-5E8FEEF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7803-0428-4830-98ED-930C75E0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CD4-8371-43EA-80EE-85FDA6EF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AC3C-C015-4612-8159-8DC3C90B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70D-C5C0-4035-B37F-F8B7760E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8AC-DDDE-47EC-A714-A17008F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F29-97CA-4DC4-9458-FD557AE9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042-BE65-41C4-96FD-B34DB737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2C8-D7B2-4842-8637-77AF225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4B0-9381-422E-9C2E-97659BF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66D-7E85-4ABB-A520-74BB8B6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030-5EA6-4827-A7EE-B74E084F94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3D2-45BC-4D87-B644-9BC0CD73AD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DOL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 needed 22 ticket for the whole famili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epitom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 person or thing that is typical of or possesses to a high degree the features of a whole clas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exhort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To urge or warn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Ex officio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by virtue of office or official posi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fring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o encroach or trespas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ingratiat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bring (oneself, for example) into the favor or good graces of another, especially by deliberate effor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Assign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rite one paragraph using 5 of the words in your paragraph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 Kill A Mockingbird-Ch. 14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egin reading ch. 14 in clas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Do study guide questions and one journal response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Answer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We needed twenty-two tickets for the whole family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ule for this: In general, spell out numbers that can be written as two word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Freewrite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rite about one goal you want to achieve in the near futur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Vocabulary-Unit 7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Write a sentence if it doesn’t have one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Ameliorate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mprove, make bett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aplomb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elf-assurance, pois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ombastic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Inflated, pretentiou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allow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mmature or inexperience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drivel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To talk foolishly or childishly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7:35:44Z</dcterms:created>
  <dc:creator>rebecca</dc:creator>
  <dc:description/>
  <dc:language>en-US</dc:language>
  <cp:lastModifiedBy>rebecca</cp:lastModifiedBy>
  <dcterms:modified xsi:type="dcterms:W3CDTF">2009-02-17T16:16:09Z</dcterms:modified>
  <cp:revision>3</cp:revision>
  <dc:subject/>
  <dc:title>DOL</dc:title>
</cp:coreProperties>
</file>